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AB78-A76F-4336-9C6D-357C5580A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a black cat with a sweater on, an orange eye mask, a party h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91F-7D08-42D0-BBA2-03E1FA67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6D8-307E-4071-9DF3-CE4BA9C0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5AE-EEEC-4036-982F-3BB16BFA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99C-94AD-4CE6-9D97-9E4CD5F6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CC2-5FEF-4185-85F7-D881CC37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72A-671C-47EC-A469-DD6A0A12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CCA-85BE-4E70-8CB0-834472DB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63A-16AB-4214-A8BF-F9A0C3C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7EE-DBEE-43AD-AFD6-92671C7B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47E-490A-4F4A-B946-5B1B812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C75-C933-4701-A00E-AF0182C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563-A351-43CB-9D47-ECCC42D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720E-985A-4930-ADA9-09E85F613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y S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kelet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kel1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umpk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Pumpkin2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ns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Monster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4419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o scary for 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 will be….a nice c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0920" y="2104920"/>
            <a:ext cx="3522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43000" y="1600200"/>
            <a:ext cx="6019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dark. But what to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ats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60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mpkins are glowing. But what to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Pumpkin2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o say. “Trick or Treat!” But what to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61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ike to get candy. But what to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639040" cy="451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733920" y="4317840"/>
            <a:ext cx="36576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my bag. But what to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743200"/>
            <a:ext cx="2590920" cy="3200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7432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09680" y="2742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743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048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29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2743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09680" y="3809880"/>
            <a:ext cx="2362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ick or tre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i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2Witches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54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atpuzz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h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spirits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811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01:38:09Z</dcterms:created>
  <dc:creator>Dan White</dc:creator>
  <dc:description/>
  <dc:language>en-US</dc:language>
  <cp:lastModifiedBy> </cp:lastModifiedBy>
  <cp:lastPrinted>2001-07-05T02:11:44Z</cp:lastPrinted>
  <dcterms:modified xsi:type="dcterms:W3CDTF">2005-01-27T19:51:12Z</dcterms:modified>
  <cp:revision>7</cp:revision>
  <dc:subject/>
  <dc:title>What to be?</dc:title>
</cp:coreProperties>
</file>